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90D-59E3-4DF3-BF96-22039C2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858-1F02-4617-82F4-8084EAC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DF9-3AFB-4C70-8703-824C3FF9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7B3-00BC-49DD-BE60-2796BE5E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8ED1-B42B-41EF-8E13-CAF8299F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8F2C-15F8-4E92-9519-1C69A414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B9E-A862-4F0C-8A99-6C8ADA5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C245-CB7A-4065-8E8B-E44DB849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C72-9569-408D-920D-71AE67A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D103-415F-4D95-8942-0667DEF7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57B-2E92-4C9E-9151-4010C7A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1AA-BD87-439E-B8A7-7107B9B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F24B-F929-4656-865A-2F9998C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E06-E15C-4A19-883A-9851C44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F3CE-7A0B-4133-BC35-289DAC72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7CC-191C-47C3-9CD9-1999E739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63C-195C-4C50-9C3A-46C80AFB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F07-0A5A-4AAA-AC9C-0F7B1725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1B2-8EBA-4C20-B00D-82AA683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1A5-0E12-4F89-9AC2-7B792D7D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182-29D8-4C16-8551-FA3AE6F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F44-08E6-4FCE-9CFF-632E9A9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BA1-EB8D-462A-B0C2-9959635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D29-AB91-4425-BB9E-A467746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337A-2614-4AE8-886F-5A7070865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DDB-AFF6-47D4-8C9E-275EDF1F2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3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ZBESTU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BESTUL ESTE UN SILICAT FIBROS DE CALCIU SI MAGNEZ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ETATI DE AZBES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 R I S O T I 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 R O C I D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M O Z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 R E M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C T I N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N T O F I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MENSIUNILE FIBRE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ZBESTO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µm/0,15 – 2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MEZOTELI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5 – 10µm/&lt; 0,1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CANCER PULMON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&gt;10µm/&gt;0,15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RCINA ELECTRICA ARE IMPORTANTA PENTRU PROCESEL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ATRUND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ETIN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AT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BILITA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 CONSTA IN DIGESTIA PARTIALA / TOTALA A FIBREL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fibrele de crizotil se defibrileaza in fibr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mfibolii sufera mai putine modificari de dimensiune si 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LUENTEAZA PROCESELE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etinere, acumulare in org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migrare a fibrelor din plaman in alte organe si tesutu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TIVITATEA CATALI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 PE SUPRAFATA FIBRELOR EXISTA CENTRII ACTIVI DONORI DE ELECTRON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EDUCATORI (donori de un electr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AZICI (donori de doi electro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-AU FACUT STUDII IN VITRO A INTERACTIUNII FIBRELOR DE AZBEST C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LBUM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HEMOGLOB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REATIN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GAMMA GLOBUL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sorbtia macromoleculelor de ADN pe azbest este urmata de prejudicierea ADN-ului si modificarea activitatii enzimatice a ADN-az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le studii au cercetat posibilitatea modificarii activitatii catalitice a suprafetelor pulberilor de azbest prin trata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CA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TER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CHI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ENT MECAN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macinare) – se prejudiciaza slab structura fin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ENT TER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6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timp de 24 ore – a diminuat capacitatea interactiunii cu Hb, ADN, creatinina 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ma globulin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PO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az – nu s-au obtinut rezultate favor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83764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 PREZINTA  SUB  FORMA 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 R A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 R A N U L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 I B R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 E N Z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T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ISTENT 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izi, b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oziune mec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 IZOLATOR FIZ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o, hidro, fono, electr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ATE FI UTILIZAT IN COMBINATIE CU AL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MATERIA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CI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CIMENT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ZUR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M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 + MICA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TERM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 + DESEURI DE ARDEZIE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UNEREA  LA  AZBEST  POATE PRODUCE  URMATOARELE AFECTIUNI (anexa 36 din N.G.P.M.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Z B E S T O Z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 E Z O T E L I O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A N C E R   P U L M O N A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A N C E R   G A S T R O I N T E S T I N A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LI  PROFESIONALE  DETERMINATE  DE AZBEST  CU  DECLARATIE  OBLIGATOR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PLASMUL LARING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PLASMUL BRONSIC SI PULM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ZOTELIOMUL:  a) ple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periton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BESTO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ECTIUNI PULMONARE BENIGNE: a) pleurezia ben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atelectazii rotu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placi pleura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457200"/>
          <a:ext cx="8153280" cy="5684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LBERI DE AZBEST SI AMESTECURI CE CONTIN AZB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RCUMSTANTE DE EXPUNERE PROFESIONA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ALA PROFESIONALA SPECIF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MATERII PRIME, CRIZOTIL, AMFIB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ia, prelucrarea si utilizarea azbestului pentru fabricarea de materiale termo si fono izolante, materiale de frictiune (placute de frane), materiale anticorozive si ignifug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bestoza, placi pleurale, mezoteliom, cancer bronhopulmonar, cancer al cailor respiratorii superioare, cancerul altor orga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BOCI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ustria materialelor de constructii, construct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TA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ustria cauciucului, farmaceutica, produselor cosmetice, a colorantilor, hartiei, in tipografii si in electroteh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coza, mezoteliom, cancer bronsic, cancerul cailor respiratorii superio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FECTELE BIOLOG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VI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itotoxici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hemo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VI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brogeni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tivitate mutag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TILE CONSIDERATE FACTORI PRIMARI AI EFECTELOR BIOLOG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unile fibr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cina electrica de supraf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bilitatea fibrelor in mediile biolog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atea catalitica a suprafetei fibr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2:24:18Z</dcterms:created>
  <dc:creator>CRISTIAN</dc:creator>
  <dc:description/>
  <dc:language>en-US</dc:language>
  <cp:lastModifiedBy>CRISTIAN</cp:lastModifiedBy>
  <dcterms:modified xsi:type="dcterms:W3CDTF">2005-06-26T13:46:20Z</dcterms:modified>
  <cp:revision>9</cp:revision>
  <dc:subject/>
  <dc:title>AZBESTUL</dc:title>
</cp:coreProperties>
</file>